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AEA-69FD-4CFD-8A45-985DDCD0BF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BBD-095A-4AF4-BAC4-1DF7753B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B10-C2C4-4ABE-904F-3A65F95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6B6-4369-4867-B52B-731849B6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4A1-794B-46D1-9317-5F4F413A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7E2-F770-473A-A7AA-AB945251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E81-1149-41D1-9B54-B161C3A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0EF-BB1F-4610-B460-EE729A2C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1FC-EE95-406A-8E5C-1D35621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7E5-10FE-4655-8269-7E38E88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30A-11FD-481C-8384-C81FCB5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8C5-5E6F-4BAB-8DBA-545D696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5FC-7DE2-471D-8FEB-326B848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73E-A9A4-497C-8D4D-D7AF5E0BC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70520" y="1646280"/>
            <a:ext cx="86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87680" y="631188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6235560"/>
            <a:ext cx="139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9920" y="541440"/>
            <a:ext cx="2388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1E10 “ROUND ROBIN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37160" y="2046240"/>
            <a:ext cx="86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4880" y="1300320"/>
            <a:ext cx="94752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OO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4880" y="3402000"/>
            <a:ext cx="94752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TORIZ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0560" y="1314360"/>
            <a:ext cx="94788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TORIZ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AD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45360" y="3406680"/>
            <a:ext cx="94752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AWL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AC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5720" y="1282680"/>
            <a:ext cx="9745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coop   Lo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3400" y="3403440"/>
            <a:ext cx="97488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Motorized Scra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Crawler Trac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89640" y="3403440"/>
            <a:ext cx="9748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Crawler Tr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8440" y="1262160"/>
            <a:ext cx="9745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Motorized   Gr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76640" y="1926720"/>
            <a:ext cx="0" cy="14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38600" y="1590840"/>
            <a:ext cx="352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7360" y="1949400"/>
            <a:ext cx="0" cy="14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38600" y="3713040"/>
            <a:ext cx="352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880" y="4830840"/>
            <a:ext cx="492768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s will rotate between s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ation #3,  the last 2 hours will be conducted at Station #4  for push loading a scrap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on #4 requires  an instructor operator for the crawler tractor.  The instructor will push load the scrapers except for the last 2 hours of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7:49:12Z</dcterms:created>
  <dc:creator>Preferred Customer</dc:creator>
  <dc:description/>
  <dc:language>en-US</dc:language>
  <cp:lastModifiedBy>timothy.blake1</cp:lastModifiedBy>
  <cp:lastPrinted>1998-09-25T20:17:42Z</cp:lastPrinted>
  <dcterms:modified xsi:type="dcterms:W3CDTF">2006-04-10T17:26:26Z</dcterms:modified>
  <cp:revision>21981</cp:revision>
  <dc:subject/>
  <dc:title>No Slide Title</dc:title>
</cp:coreProperties>
</file>